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" name="Object 2"/>
          <p:cNvGraphicFramePr/>
          <p:nvPr/>
        </p:nvGraphicFramePr>
        <p:xfrm>
          <a:off x="4876920" y="1981080"/>
          <a:ext cx="3454200" cy="34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981080"/>
                    <a:ext cx="3454200" cy="34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Targets, Evidence and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" name="Object 3"/>
          <p:cNvGraphicFramePr/>
          <p:nvPr/>
        </p:nvGraphicFramePr>
        <p:xfrm>
          <a:off x="1066680" y="2590920"/>
          <a:ext cx="2944800" cy="41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590920"/>
                    <a:ext cx="2944800" cy="41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Learning Tar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clearly what it is that you consider to be crucial in a lesson or, at a higher level, in a uni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on central facts, concepts, skills and dispositions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articulated within and across grad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 within the teacher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repertoire;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manageabl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rather than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udents will appreciate literature.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Object 2"/>
          <p:cNvGraphicFramePr/>
          <p:nvPr/>
        </p:nvGraphicFramePr>
        <p:xfrm>
          <a:off x="7607160" y="152280"/>
          <a:ext cx="139248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7160" y="152280"/>
                    <a:ext cx="139248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3"/>
          <p:cNvGraphicFramePr/>
          <p:nvPr/>
        </p:nvGraphicFramePr>
        <p:xfrm>
          <a:off x="152280" y="152280"/>
          <a:ext cx="129564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52280"/>
                    <a:ext cx="12956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" dur="1" fill="hold"/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44" dur="1" fill="hold"/>
                                  <p:tgtEl>
                                    <p:spTgt spid="4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Learning Tar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960" y="1980720"/>
            <a:ext cx="3276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her than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will appreciate literature,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: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will understand the role of imagery in Carl Sandburg’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440388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Group 1" descr=""/>
          <p:cNvPicPr/>
          <p:nvPr/>
        </p:nvPicPr>
        <p:blipFill>
          <a:blip r:embed="rId1"/>
          <a:stretch/>
        </p:blipFill>
        <p:spPr>
          <a:xfrm>
            <a:off x="3481560" y="1579680"/>
            <a:ext cx="5229000" cy="49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ctangle 5" descr=""/>
          <p:cNvPicPr/>
          <p:nvPr/>
        </p:nvPicPr>
        <p:blipFill>
          <a:blip r:embed="rId1"/>
          <a:stretch/>
        </p:blipFill>
        <p:spPr>
          <a:xfrm>
            <a:off x="682560" y="1981080"/>
            <a:ext cx="815652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Targets: F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966600" y="16002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udents will know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5" descr=""/>
          <p:cNvPicPr/>
          <p:nvPr/>
        </p:nvPicPr>
        <p:blipFill>
          <a:blip r:embed="rId1"/>
          <a:stretch/>
        </p:blipFill>
        <p:spPr>
          <a:xfrm>
            <a:off x="835200" y="2286000"/>
            <a:ext cx="8083440" cy="3584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Targets: Conce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854280" y="1752480"/>
            <a:ext cx="35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udents will understand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Rectangle 5" descr=""/>
          <p:cNvPicPr/>
          <p:nvPr/>
        </p:nvPicPr>
        <p:blipFill>
          <a:blip r:embed="rId1"/>
          <a:stretch/>
        </p:blipFill>
        <p:spPr>
          <a:xfrm>
            <a:off x="682560" y="1981080"/>
            <a:ext cx="815652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Targets: Ski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929880" y="16002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udents will be able to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Rectangle 5" descr=""/>
          <p:cNvPicPr/>
          <p:nvPr/>
        </p:nvPicPr>
        <p:blipFill>
          <a:blip r:embed="rId1"/>
          <a:stretch/>
        </p:blipFill>
        <p:spPr>
          <a:xfrm>
            <a:off x="682560" y="1981080"/>
            <a:ext cx="777888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Targets: Dispos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927720" y="1600200"/>
            <a:ext cx="56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udents will value, enjoy, appreciate, etc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07:13:39Z</dcterms:created>
  <dc:creator>Mark Roddy</dc:creator>
  <dc:description/>
  <cp:keywords/>
  <dc:language>en-US</dc:language>
  <cp:lastModifiedBy>Mark Roddy</cp:lastModifiedBy>
  <cp:lastPrinted>2004-09-30T20:14:45Z</cp:lastPrinted>
  <dcterms:modified xsi:type="dcterms:W3CDTF">2014-01-09T22:45:29Z</dcterms:modified>
  <cp:revision>35</cp:revision>
  <dc:subject/>
  <dc:title>Learning Targets, Evidence and Assessment</dc:title>
</cp:coreProperties>
</file>